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7E1-1FFF-47F6-AF50-08A2E9F2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AD8-7CED-4B9C-A671-0B377813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59D-8EA7-493C-854F-5ACB405B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7E7-CAA5-43B5-AF92-D253F66E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271D-9EE5-49DF-A7A9-3090139A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DA48-2B67-4DD5-97D7-79DD0C9C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E6AB-5CD6-4128-AC7D-DD51C954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41F3-E144-4AA5-91A9-4A821D8F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3440-293C-475F-AEB1-3A0044C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F1C1-4344-4C4A-9A6E-AEF03270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D702-BE8C-40E3-A964-C6DEB8EE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E8E-90C5-4DE9-BBB9-3377F9BA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59C2-D084-4722-B010-E111B0A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17D1-8547-483A-A756-C23538C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97D1-6DA6-46AF-9DA7-4A7F89FE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D5FC-AD0A-4672-B937-8686F60B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E8D8-6A04-4AAE-A80A-045EC448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484-D562-4B9D-9B2A-A0930F0C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0F1-8295-4FD2-9E24-7F011319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BA3-41D9-4650-9C66-EFC04C26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F46-76CE-472E-8C58-060BAA14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AA9-B531-4A7E-A947-3F58049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04F-5349-401B-BE7B-2CFE408F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95A-347A-415E-AC11-6CF41640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F9F1-F07C-4C36-879D-30F143BCA9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A3B9-3529-4922-BD17-D0892D53D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ifferencebetween.net/science/difference-between-organic-and-inorganic-compounds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2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4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organic or inorganic compound?  Explain your answ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>
            <a:hlinkClick r:id="rId2"/>
          </p:cNvPr>
          <p:cNvSpPr/>
          <p:nvPr/>
        </p:nvSpPr>
        <p:spPr>
          <a:xfrm>
            <a:off x="3581280" y="3276720"/>
            <a:ext cx="1067040" cy="99036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72" h="21600">
                <a:moveTo>
                  <a:pt x="0" y="0"/>
                </a:moveTo>
                <a:lnTo>
                  <a:pt x="23272" y="0"/>
                </a:lnTo>
                <a:lnTo>
                  <a:pt x="23272" y="21600"/>
                </a:lnTo>
                <a:lnTo>
                  <a:pt x="0" y="21600"/>
                </a:lnTo>
                <a:close/>
              </a:path>
              <a:path fill="lightenLess" w="23272" h="21600">
                <a:moveTo>
                  <a:pt x="0" y="0"/>
                </a:moveTo>
                <a:lnTo>
                  <a:pt x="23272" y="0"/>
                </a:lnTo>
                <a:lnTo>
                  <a:pt x="21872" y="1400"/>
                </a:lnTo>
                <a:lnTo>
                  <a:pt x="1400" y="1400"/>
                </a:lnTo>
                <a:close/>
              </a:path>
              <a:path fill="darken" w="23272" h="21600">
                <a:moveTo>
                  <a:pt x="23272" y="0"/>
                </a:moveTo>
                <a:lnTo>
                  <a:pt x="23272" y="21600"/>
                </a:lnTo>
                <a:lnTo>
                  <a:pt x="21872" y="20200"/>
                </a:lnTo>
                <a:lnTo>
                  <a:pt x="21872" y="1400"/>
                </a:lnTo>
                <a:close/>
              </a:path>
              <a:path fill="darkenLess" w="23272" h="21600">
                <a:moveTo>
                  <a:pt x="2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2" y="20200"/>
                </a:lnTo>
                <a:close/>
              </a:path>
              <a:path fill="lighten" w="2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72" h="21600">
                <a:moveTo>
                  <a:pt x="1163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272" h="21600">
                <a:moveTo>
                  <a:pt x="1163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272" h="21600">
                <a:moveTo>
                  <a:pt x="9060" y="8224"/>
                </a:moveTo>
                <a:lnTo>
                  <a:pt x="12924" y="8224"/>
                </a:lnTo>
                <a:lnTo>
                  <a:pt x="12924" y="15221"/>
                </a:lnTo>
                <a:lnTo>
                  <a:pt x="14212" y="15221"/>
                </a:lnTo>
                <a:lnTo>
                  <a:pt x="14212" y="16144"/>
                </a:lnTo>
                <a:lnTo>
                  <a:pt x="9060" y="16144"/>
                </a:lnTo>
                <a:lnTo>
                  <a:pt x="9060" y="15221"/>
                </a:lnTo>
                <a:lnTo>
                  <a:pt x="10348" y="15221"/>
                </a:lnTo>
                <a:lnTo>
                  <a:pt x="10348" y="9129"/>
                </a:lnTo>
                <a:lnTo>
                  <a:pt x="9060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3:16:22Z</dcterms:created>
  <dc:creator>PritchaJ</dc:creator>
  <dc:description/>
  <dc:language>en-US</dc:language>
  <cp:lastModifiedBy>PritchaJ</cp:lastModifiedBy>
  <dcterms:modified xsi:type="dcterms:W3CDTF">2011-06-01T13:22:09Z</dcterms:modified>
  <cp:revision>1</cp:revision>
  <dc:subject/>
  <dc:title>Slide 1</dc:title>
</cp:coreProperties>
</file>